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5BB-0A64-4D55-A373-5172ED66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9C9-13CF-474D-B897-BA55E743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1E3-65D3-4DBF-853C-71F9C94A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BBD-89E4-46ED-95D8-52FA0AA0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9152D-EA0F-4EDC-87BC-6C4B8BDB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75E6B-2C1A-41ED-9D04-BB003201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E5F88-75AF-419B-82AE-EF346D7C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AE7E-F7AA-4EE4-AC68-F85E36F6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F1DEB-16C1-44E5-8973-6AF16336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442E2-2EB2-4806-B73D-F36ECC04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13385-3D8D-4F5E-8163-2B469BD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40A-6C74-4AB2-B2FE-D9FBB51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AF645-4363-45E0-A5F8-AA1D64E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8723D-1696-4422-B9AD-FFC0858C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FEC57-2839-438F-A70C-3B185B6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5CAA5-AF5E-439F-B77F-6686A6DD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118BE-6ADC-4B68-845C-D79943C6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45A-84C1-478A-90F3-AF95EA1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47D-C514-4370-9B6C-C337BD33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EFE-CF66-49EA-BA23-7CEF48D2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D4D-F4AB-4AEF-BF0B-13676312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8B4-0058-4F3A-B299-99C378D8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18C-4D8A-4660-AA02-F2615D9F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995-DFB4-4557-8C1D-1EC18E70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1EA3-C94A-4A60-B05C-EAEF74BBAD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DD04-6C61-4880-9D39-1F81C8B81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thony Severance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ch Tu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67652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l Catálogo de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938240" cy="2514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3848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Juan lleva traje de ba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 con muchos colo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2280"/>
            <a:ext cx="8077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l Veran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58000" y="2590920"/>
            <a:ext cx="1981080" cy="231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10080" y="35053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7339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3886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3657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aco lleva la camiseta y los pantalones cortos blan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0"/>
            <a:ext cx="8229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 Primave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2863800" cy="3200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010280" y="4114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5029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ul lleva blue jeans y 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 amaril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1809720" cy="252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934320" y="41911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419112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fia lleva un vestido rosado y camisa blan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3000" y="0"/>
            <a:ext cx="6858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Otoñ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419112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mantha lleva una bufanda negro, una chaqueta gris, y los pantalones borg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296120" y="439092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410080" y="511812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dro lleva un su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er negro, una camisa gris, y los pantalones marr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4400" y="228600"/>
            <a:ext cx="7620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Invier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695600" cy="2695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3828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362320"/>
            <a:ext cx="121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Max lleva una chaqueta rojo, y los pantaloes para la niev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191360" y="4524480"/>
            <a:ext cx="1952640" cy="2333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38680" y="4419720"/>
            <a:ext cx="152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Antonio lleva una chaqueta negro, y los pantalones marr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8080" y="1371600"/>
            <a:ext cx="8001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E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04:17Z</dcterms:created>
  <dc:creator>Zachary Lewis Turner</dc:creator>
  <dc:description/>
  <dc:language>en-US</dc:language>
  <cp:lastModifiedBy>Zachary Lewis Turner</cp:lastModifiedBy>
  <dcterms:modified xsi:type="dcterms:W3CDTF">2013-01-04T17:58:22Z</dcterms:modified>
  <cp:revision>6</cp:revision>
  <dc:subject/>
  <dc:title>Slide 1</dc:title>
</cp:coreProperties>
</file>